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82E7-8AA8-4FDF-A0E3-E394CD441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BB58-FA35-46DE-A386-D901C393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1C0F-4EB2-4B00-8A2E-5AD7A83B8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5FDC-AB3F-4B20-AC84-00FE57DC2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5507-ABAE-470A-9CD2-9228C48E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509C-DA2F-4722-8EC5-A57A376F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42E1-17F4-45B3-9915-15199BC7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AAD0-8576-45BB-B5FE-B1C80ADF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2B8A-6480-4E6D-823C-5C983598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39FB-E76D-4800-9FCE-BB0A096B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485B-2DD2-4F70-A59F-CB06D216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D757-F1EF-40C1-875A-BCFE56BB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A7FC-1035-4DCF-8E76-11C923ABD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127.0.0.1:8081/plosone/article?id=info:doi/10.1371/journal.pone.0126543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2286000"/>
            <a:ext cx="9524880" cy="2629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 2. The Modified Incompatibility of Materialism and Children Mod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 NP, Lim AJY, Tsai MH, O J (2015) Too Materialistic to Get Married and Have Children?. PLoS ONE 10(5): e0126543. doi:10.1371/journal.pone.01265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127.0.0.1:8081/plosone/article?id=info:doi/10.1371/journal.pone.01265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69360" y="7188120"/>
            <a:ext cx="242568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