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CBD9-777F-4E42-80FE-3FFC6CA2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E517-0709-49EA-8043-D2BBC908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E1E-FAFC-4097-B61C-62F7F1302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7346-3929-4E35-9850-5C05A01F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613-5F14-4798-8360-E8D0939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95C1-9BC8-4936-BAB8-974757B8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DE7B-C538-4AD6-AD44-5B58BDC0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BEC-BD28-47C5-A52B-41B8A899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BBC-0141-4D6D-8C4C-8FE93305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9FA3-FB92-42B7-98C2-2A3015D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34F-521D-4943-A415-AA5E5736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49D7-9DCE-4EC3-BDE9-4908C668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6E68-D9EE-4B7E-9F63-8E7A2CC6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27.0.0.1:8081/plosone/article?id=info:doi/10.1371/journal.pone.012654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3035160"/>
            <a:ext cx="952488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The Modified Incompatibility of Materialism and Children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 NP, Lim AJY, Tsai MH, O J (2015) Too Materialistic to Get Married and Have Children?. PLoS ONE 10(5): e0126543. doi:10.1371/journal.pone.0126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127.0.0.1:8081/plosone/article?id=info:doi/10.1371/journal.pone.0126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7188120"/>
            <a:ext cx="24256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