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lationship between femininity preference index and NHI. Average men's preference for femininity plotted against NHI of their country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0.71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28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ionship between femininity preference index and NHI. Average men's preference for femininity plotted against NHI of their country (r = 0.71, n = 28, p &lt; 0.000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40720" y="6983280"/>
            <a:ext cx="1065240" cy="4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6680" y="1079640"/>
            <a:ext cx="687060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668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rszula M. Marcinkowska et al. Biol. Lett. 2014;10:20130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The Roy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